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png" ContentType="image/png"/>
  <Override PartName="/ppt/media/image14.png" ContentType="image/png"/>
  <Override PartName="/ppt/media/image2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2B70F-FD68-468D-A711-31553A560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88920" y="2044440"/>
            <a:ext cx="716616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88920" y="4176360"/>
            <a:ext cx="716616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42B0A-FE47-4A2F-86BC-EEE63F049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88920" y="204444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1280" y="204444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88920" y="417636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1280" y="417636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69934-EFDD-4247-946B-A01062CF3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88920" y="2044440"/>
            <a:ext cx="23072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12080" y="2044440"/>
            <a:ext cx="23072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834880" y="2044440"/>
            <a:ext cx="23072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88920" y="4176360"/>
            <a:ext cx="23072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12080" y="4176360"/>
            <a:ext cx="23072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834880" y="4176360"/>
            <a:ext cx="23072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C52DB-2430-455A-B14E-4DFFF2969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F79B0-E022-4AAE-B593-96B0F9CB0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988920" y="2044440"/>
            <a:ext cx="7166160" cy="408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DF50B-AE36-45FD-B7A6-5D2E621D3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88920" y="2044440"/>
            <a:ext cx="7166160" cy="40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3DC46-4272-4B45-B08C-976BEF82C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88920" y="2044440"/>
            <a:ext cx="3497040" cy="40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1280" y="2044440"/>
            <a:ext cx="3497040" cy="40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A70EE-03AF-48EE-B7A9-74862A926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E151E-6D26-41A2-9520-BEBD1061C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12720" y="582480"/>
            <a:ext cx="7918560" cy="36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2524E-2268-4702-A791-3A108F247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88920" y="204444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1280" y="2044440"/>
            <a:ext cx="3497040" cy="40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988920" y="417636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904F4-F176-4FA6-943B-5F87A33A4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88920" y="2044440"/>
            <a:ext cx="7166160" cy="408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06F2C-71D6-49F1-B388-6E114F860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88920" y="2044440"/>
            <a:ext cx="3497040" cy="40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1280" y="204444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1280" y="417636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5B1DB-824C-4DF3-930F-C2E89C9D5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88920" y="204444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1280" y="204444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988920" y="4176360"/>
            <a:ext cx="716616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ABBAC-0150-4511-867C-86163194B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88920" y="2044440"/>
            <a:ext cx="716616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988920" y="4176360"/>
            <a:ext cx="716616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DEFD1-EC1C-4AEA-8646-66C6673C3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88920" y="204444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1280" y="204444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88920" y="417636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1280" y="417636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7B1DE-0337-4BEB-8DA2-5CD50A672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88920" y="2044440"/>
            <a:ext cx="23072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412080" y="2044440"/>
            <a:ext cx="23072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834880" y="2044440"/>
            <a:ext cx="23072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988920" y="4176360"/>
            <a:ext cx="23072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412080" y="4176360"/>
            <a:ext cx="23072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834880" y="4176360"/>
            <a:ext cx="23072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5B244-8282-471D-959A-2A84DAA86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88920" y="2044440"/>
            <a:ext cx="7166160" cy="408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88920" y="2044440"/>
            <a:ext cx="7166160" cy="40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88920" y="2044440"/>
            <a:ext cx="3497040" cy="40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1280" y="2044440"/>
            <a:ext cx="3497040" cy="40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88920" y="2044440"/>
            <a:ext cx="7166160" cy="40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716F1-6E21-4B79-BC70-93C243817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12720" y="582480"/>
            <a:ext cx="7918560" cy="36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88920" y="204444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61280" y="2044440"/>
            <a:ext cx="3497040" cy="40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988920" y="417636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88920" y="2044440"/>
            <a:ext cx="3497040" cy="40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1280" y="204444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61280" y="417636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88920" y="204444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1280" y="204444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988920" y="4176360"/>
            <a:ext cx="716616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88920" y="2044440"/>
            <a:ext cx="716616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988920" y="4176360"/>
            <a:ext cx="716616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88920" y="204444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1280" y="204444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988920" y="417636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61280" y="417636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88920" y="2044440"/>
            <a:ext cx="23072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412080" y="2044440"/>
            <a:ext cx="23072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834880" y="2044440"/>
            <a:ext cx="23072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988920" y="4176360"/>
            <a:ext cx="23072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412080" y="4176360"/>
            <a:ext cx="23072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834880" y="4176360"/>
            <a:ext cx="23072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988920" y="2044440"/>
            <a:ext cx="7166160" cy="408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88920" y="2044440"/>
            <a:ext cx="7166160" cy="40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88920" y="2044440"/>
            <a:ext cx="3497040" cy="40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1280" y="2044440"/>
            <a:ext cx="3497040" cy="40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315E8-C2DC-4870-83E0-A807DDE98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88920" y="2044440"/>
            <a:ext cx="3497040" cy="40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61280" y="2044440"/>
            <a:ext cx="3497040" cy="40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12720" y="582480"/>
            <a:ext cx="7918560" cy="36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88920" y="204444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1280" y="2044440"/>
            <a:ext cx="3497040" cy="40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988920" y="417636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988920" y="2044440"/>
            <a:ext cx="3497040" cy="40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61280" y="204444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661280" y="417636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88920" y="204444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61280" y="204444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988920" y="4176360"/>
            <a:ext cx="716616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88920" y="2044440"/>
            <a:ext cx="716616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988920" y="4176360"/>
            <a:ext cx="716616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88920" y="204444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61280" y="204444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988920" y="417636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661280" y="417636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988920" y="2044440"/>
            <a:ext cx="23072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412080" y="2044440"/>
            <a:ext cx="23072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834880" y="2044440"/>
            <a:ext cx="23072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988920" y="4176360"/>
            <a:ext cx="23072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3412080" y="4176360"/>
            <a:ext cx="23072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5834880" y="4176360"/>
            <a:ext cx="23072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E8D8FF-75E4-4DBA-9BA0-DF8CCACC6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97698-DA60-4DEA-A38F-3B4B40AFD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988920" y="2044440"/>
            <a:ext cx="7166160" cy="408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111C1E-E401-4136-849D-B5664989E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88920" y="2044440"/>
            <a:ext cx="7166160" cy="40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59F539-27F7-4D7C-A860-83FD1852C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88920" y="2044440"/>
            <a:ext cx="3497040" cy="40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61280" y="2044440"/>
            <a:ext cx="3497040" cy="40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DB1219-9364-4D5D-863D-311D25CE3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F7BEF7-D737-4FBD-AA86-E800AD99E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612720" y="582480"/>
            <a:ext cx="7918560" cy="36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9D2B04-C777-4B97-8B2E-F0A95A203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88920" y="204444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61280" y="2044440"/>
            <a:ext cx="3497040" cy="40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988920" y="417636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6D227D-6960-459A-9029-2392E32A9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88920" y="2044440"/>
            <a:ext cx="3497040" cy="40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61280" y="204444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61280" y="417636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831E7F-2E75-4288-9E5D-8B519C22F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988920" y="204444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61280" y="204444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988920" y="4176360"/>
            <a:ext cx="716616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A3A06F-DC22-41C6-9CB0-D6174513D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988920" y="2044440"/>
            <a:ext cx="716616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988920" y="4176360"/>
            <a:ext cx="716616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D91312-ECB7-4005-922D-5149F80F2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88920" y="204444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61280" y="204444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88920" y="417636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61280" y="417636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17CD0D-7A19-4B1F-B706-DDDE501DE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12720" y="582480"/>
            <a:ext cx="7918560" cy="36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C5734-2FE2-48BC-A93D-8872DB9AB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88920" y="2044440"/>
            <a:ext cx="23072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412080" y="2044440"/>
            <a:ext cx="23072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834880" y="2044440"/>
            <a:ext cx="23072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988920" y="4176360"/>
            <a:ext cx="23072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412080" y="4176360"/>
            <a:ext cx="23072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5834880" y="4176360"/>
            <a:ext cx="23072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B5B7C8-C057-4AEC-A232-2FB44047F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88920" y="204444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1280" y="2044440"/>
            <a:ext cx="3497040" cy="40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88920" y="417636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26A0D-F052-4220-BBEA-F3F53FBEB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88920" y="2044440"/>
            <a:ext cx="3497040" cy="40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1280" y="204444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1280" y="417636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28C7C-3320-4DBE-82BA-8E97CD7F0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88920" y="204444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1280" y="204444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88920" y="4176360"/>
            <a:ext cx="716616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70882-9BC5-4AB5-9FEB-706F4D490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af0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88920" y="2044440"/>
            <a:ext cx="7166160" cy="40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54638c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1" marL="685800" indent="-336600">
              <a:spcBef>
                <a:spcPts val="550"/>
              </a:spcBef>
              <a:buClr>
                <a:srgbClr val="949fbf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2" marL="1035000" indent="-349200">
              <a:spcBef>
                <a:spcPts val="550"/>
              </a:spcBef>
              <a:buClr>
                <a:srgbClr val="54638c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336600">
              <a:spcBef>
                <a:spcPts val="550"/>
              </a:spcBef>
              <a:buClr>
                <a:srgbClr val="949fbf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4" marL="1720800" indent="-349200">
              <a:spcBef>
                <a:spcPts val="550"/>
              </a:spcBef>
              <a:buClr>
                <a:srgbClr val="54638c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5" marL="1720800" indent="-349200">
              <a:spcBef>
                <a:spcPts val="550"/>
              </a:spcBef>
              <a:buClr>
                <a:srgbClr val="ffffff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6" marL="1720800" indent="-349200">
              <a:spcBef>
                <a:spcPts val="550"/>
              </a:spcBef>
              <a:buClr>
                <a:srgbClr val="ffffff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75520"/>
            <a:ext cx="1600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8d9ab3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5A13A31-DAB5-437C-9C17-04BD115EDFAD}" type="datetime">
              <a:rPr b="0" lang="en-US" sz="1100" spc="-1" strike="noStrike">
                <a:solidFill>
                  <a:srgbClr val="8d9ab3"/>
                </a:solidFill>
                <a:latin typeface="Century Gothic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04640" y="6275520"/>
            <a:ext cx="564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076960" y="6275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8d9ab3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E4067CE-797C-47CB-A630-D7574A37464F}" type="slidenum">
              <a:rPr b="0" lang="en-US" sz="1400" spc="-1" strike="noStrike">
                <a:solidFill>
                  <a:srgbClr val="8d9ab3"/>
                </a:solidFill>
                <a:latin typeface="Century Goth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af0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988920" y="2044440"/>
            <a:ext cx="7166160" cy="40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54638c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1" marL="685800" indent="-336600">
              <a:spcBef>
                <a:spcPts val="550"/>
              </a:spcBef>
              <a:buClr>
                <a:srgbClr val="949fbf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2" marL="1035000" indent="-349200">
              <a:spcBef>
                <a:spcPts val="550"/>
              </a:spcBef>
              <a:buClr>
                <a:srgbClr val="54638c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336600">
              <a:spcBef>
                <a:spcPts val="550"/>
              </a:spcBef>
              <a:buClr>
                <a:srgbClr val="949fbf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4" marL="1720800" indent="-349200">
              <a:spcBef>
                <a:spcPts val="550"/>
              </a:spcBef>
              <a:buClr>
                <a:srgbClr val="54638c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5" marL="1720800" indent="-349200">
              <a:spcBef>
                <a:spcPts val="550"/>
              </a:spcBef>
              <a:buClr>
                <a:srgbClr val="ffffff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6" marL="1720800" indent="-349200">
              <a:spcBef>
                <a:spcPts val="550"/>
              </a:spcBef>
              <a:buClr>
                <a:srgbClr val="ffffff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75520"/>
            <a:ext cx="1600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8d9ab3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287A814-4ED2-4560-A071-AF1886C3117C}" type="datetime">
              <a:rPr b="0" lang="en-US" sz="1100" spc="-1" strike="noStrike">
                <a:solidFill>
                  <a:srgbClr val="8d9ab3"/>
                </a:solidFill>
                <a:latin typeface="Century Gothic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2209680" y="6275520"/>
            <a:ext cx="5639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076960" y="6275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8d9ab3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E180CC1-E661-4ECD-AB9B-902070E9EB26}" type="slidenum">
              <a:rPr b="0" lang="en-US" sz="1400" spc="-1" strike="noStrike">
                <a:solidFill>
                  <a:srgbClr val="8d9ab3"/>
                </a:solidFill>
                <a:latin typeface="Century Goth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af0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88920" y="2044440"/>
            <a:ext cx="7166160" cy="40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54638c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1" marL="685800" indent="-336600">
              <a:spcBef>
                <a:spcPts val="550"/>
              </a:spcBef>
              <a:buClr>
                <a:srgbClr val="949fbf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2" marL="1035000" indent="-349200">
              <a:spcBef>
                <a:spcPts val="550"/>
              </a:spcBef>
              <a:buClr>
                <a:srgbClr val="54638c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336600">
              <a:spcBef>
                <a:spcPts val="550"/>
              </a:spcBef>
              <a:buClr>
                <a:srgbClr val="949fbf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4" marL="1720800" indent="-349200">
              <a:spcBef>
                <a:spcPts val="550"/>
              </a:spcBef>
              <a:buClr>
                <a:srgbClr val="54638c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5" marL="1720800" indent="-349200">
              <a:spcBef>
                <a:spcPts val="550"/>
              </a:spcBef>
              <a:buClr>
                <a:srgbClr val="ffffff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6" marL="1720800" indent="-349200">
              <a:spcBef>
                <a:spcPts val="550"/>
              </a:spcBef>
              <a:buClr>
                <a:srgbClr val="ffffff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af0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988920" y="2044440"/>
            <a:ext cx="7166160" cy="40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54638c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1" marL="685800" indent="-336600">
              <a:spcBef>
                <a:spcPts val="550"/>
              </a:spcBef>
              <a:buClr>
                <a:srgbClr val="949fbf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2" marL="1035000" indent="-349200">
              <a:spcBef>
                <a:spcPts val="550"/>
              </a:spcBef>
              <a:buClr>
                <a:srgbClr val="54638c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336600">
              <a:spcBef>
                <a:spcPts val="550"/>
              </a:spcBef>
              <a:buClr>
                <a:srgbClr val="949fbf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4" marL="1720800" indent="-349200">
              <a:spcBef>
                <a:spcPts val="550"/>
              </a:spcBef>
              <a:buClr>
                <a:srgbClr val="54638c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5" marL="1720800" indent="-349200">
              <a:spcBef>
                <a:spcPts val="550"/>
              </a:spcBef>
              <a:buClr>
                <a:srgbClr val="ffffff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6" marL="1720800" indent="-349200">
              <a:spcBef>
                <a:spcPts val="550"/>
              </a:spcBef>
              <a:buClr>
                <a:srgbClr val="ffffff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6"/>
          <p:cNvSpPr/>
          <p:nvPr/>
        </p:nvSpPr>
        <p:spPr>
          <a:xfrm flipH="1">
            <a:off x="4572720" y="1693800"/>
            <a:ext cx="19080" cy="4389480"/>
          </a:xfrm>
          <a:prstGeom prst="rect">
            <a:avLst/>
          </a:prstGeom>
          <a:gradFill rotWithShape="0">
            <a:gsLst>
              <a:gs pos="0">
                <a:srgbClr val="607090"/>
              </a:gs>
              <a:gs pos="100000">
                <a:srgbClr val="8d9ab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Rectangle 7"/>
          <p:cNvSpPr/>
          <p:nvPr/>
        </p:nvSpPr>
        <p:spPr>
          <a:xfrm flipH="1">
            <a:off x="4572720" y="1693800"/>
            <a:ext cx="19080" cy="4389480"/>
          </a:xfrm>
          <a:prstGeom prst="rect">
            <a:avLst/>
          </a:prstGeom>
          <a:gradFill rotWithShape="0">
            <a:gsLst>
              <a:gs pos="0">
                <a:srgbClr val="607090"/>
              </a:gs>
              <a:gs pos="100000">
                <a:srgbClr val="8d9ab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Rectangle 8"/>
          <p:cNvSpPr/>
          <p:nvPr/>
        </p:nvSpPr>
        <p:spPr>
          <a:xfrm flipH="1">
            <a:off x="4572720" y="1693800"/>
            <a:ext cx="19080" cy="4389480"/>
          </a:xfrm>
          <a:prstGeom prst="rect">
            <a:avLst/>
          </a:prstGeom>
          <a:gradFill rotWithShape="0">
            <a:gsLst>
              <a:gs pos="0">
                <a:srgbClr val="607090"/>
              </a:gs>
              <a:gs pos="100000">
                <a:srgbClr val="8d9ab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Rectangle 9"/>
          <p:cNvSpPr/>
          <p:nvPr/>
        </p:nvSpPr>
        <p:spPr>
          <a:xfrm flipH="1">
            <a:off x="4572720" y="1693800"/>
            <a:ext cx="19080" cy="4389480"/>
          </a:xfrm>
          <a:prstGeom prst="rect">
            <a:avLst/>
          </a:prstGeom>
          <a:gradFill rotWithShape="0">
            <a:gsLst>
              <a:gs pos="0">
                <a:srgbClr val="607090"/>
              </a:gs>
              <a:gs pos="100000">
                <a:srgbClr val="8d9ab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af0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88920" y="2044440"/>
            <a:ext cx="7166160" cy="40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54638c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1" marL="685800" indent="-336600">
              <a:spcBef>
                <a:spcPts val="550"/>
              </a:spcBef>
              <a:buClr>
                <a:srgbClr val="949fbf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2" marL="1035000" indent="-349200">
              <a:spcBef>
                <a:spcPts val="550"/>
              </a:spcBef>
              <a:buClr>
                <a:srgbClr val="54638c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336600">
              <a:spcBef>
                <a:spcPts val="550"/>
              </a:spcBef>
              <a:buClr>
                <a:srgbClr val="949fbf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4" marL="1720800" indent="-349200">
              <a:spcBef>
                <a:spcPts val="550"/>
              </a:spcBef>
              <a:buClr>
                <a:srgbClr val="54638c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5" marL="1720800" indent="-349200">
              <a:spcBef>
                <a:spcPts val="550"/>
              </a:spcBef>
              <a:buClr>
                <a:srgbClr val="ffffff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6" marL="1720800" indent="-349200">
              <a:spcBef>
                <a:spcPts val="550"/>
              </a:spcBef>
              <a:buClr>
                <a:srgbClr val="ffffff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 type="dt" idx="7"/>
          </p:nvPr>
        </p:nvSpPr>
        <p:spPr>
          <a:xfrm>
            <a:off x="456840" y="6275520"/>
            <a:ext cx="1600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8d9ab3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6FEE0E6-CFB1-43E4-8DC8-E31D4BBE5954}" type="datetime">
              <a:rPr b="0" lang="en-US" sz="1100" spc="-1" strike="noStrike">
                <a:solidFill>
                  <a:srgbClr val="8d9ab3"/>
                </a:solidFill>
                <a:latin typeface="Century Gothic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 type="ftr" idx="8"/>
          </p:nvPr>
        </p:nvSpPr>
        <p:spPr>
          <a:xfrm>
            <a:off x="2204640" y="6275520"/>
            <a:ext cx="564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 type="sldNum" idx="9"/>
          </p:nvPr>
        </p:nvSpPr>
        <p:spPr>
          <a:xfrm>
            <a:off x="8076960" y="6275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8d9ab3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3AFFA18-1543-4EC0-9573-E3A4FAB51F5A}" type="slidenum">
              <a:rPr b="0" lang="en-US" sz="1400" spc="-1" strike="noStrike">
                <a:solidFill>
                  <a:srgbClr val="8d9ab3"/>
                </a:solidFill>
                <a:latin typeface="Century Goth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Title 1" descr=""/>
          <p:cNvPicPr/>
          <p:nvPr/>
        </p:nvPicPr>
        <p:blipFill>
          <a:blip r:embed="rId2"/>
          <a:stretch/>
        </p:blipFill>
        <p:spPr>
          <a:xfrm>
            <a:off x="444600" y="146160"/>
            <a:ext cx="8424720" cy="3670200"/>
          </a:xfrm>
          <a:prstGeom prst="rect">
            <a:avLst/>
          </a:prstGeom>
          <a:ln w="0">
            <a:noFill/>
          </a:ln>
        </p:spPr>
      </p:pic>
      <p:pic>
        <p:nvPicPr>
          <p:cNvPr id="204" name="Subtitle 2" descr=""/>
          <p:cNvPicPr/>
          <p:nvPr/>
        </p:nvPicPr>
        <p:blipFill>
          <a:blip r:embed="rId3"/>
          <a:stretch/>
        </p:blipFill>
        <p:spPr>
          <a:xfrm>
            <a:off x="444600" y="633240"/>
            <a:ext cx="7931160" cy="271332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5" descr=""/>
          <p:cNvPicPr/>
          <p:nvPr/>
        </p:nvPicPr>
        <p:blipFill>
          <a:blip r:embed="rId4"/>
          <a:stretch/>
        </p:blipFill>
        <p:spPr>
          <a:xfrm>
            <a:off x="2449440" y="3276720"/>
            <a:ext cx="3975120" cy="351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Title 1"/>
          <p:cNvGrpSpPr/>
          <p:nvPr/>
        </p:nvGrpSpPr>
        <p:grpSpPr>
          <a:xfrm>
            <a:off x="347760" y="523800"/>
            <a:ext cx="8289720" cy="1023840"/>
            <a:chOff x="347760" y="523800"/>
            <a:chExt cx="8289720" cy="1023840"/>
          </a:xfrm>
        </p:grpSpPr>
        <p:pic>
          <p:nvPicPr>
            <p:cNvPr id="207" name="Title 1" descr=""/>
            <p:cNvPicPr/>
            <p:nvPr/>
          </p:nvPicPr>
          <p:blipFill>
            <a:blip r:embed="rId2"/>
            <a:stretch/>
          </p:blipFill>
          <p:spPr>
            <a:xfrm>
              <a:off x="347760" y="523800"/>
              <a:ext cx="8289720" cy="102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"/>
            <p:cNvSpPr/>
            <p:nvPr/>
          </p:nvSpPr>
          <p:spPr>
            <a:xfrm>
              <a:off x="612720" y="582480"/>
              <a:ext cx="7918560" cy="78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Century Gothic"/>
                </a:rPr>
                <a:t>Objective</a:t>
              </a:r>
              <a:endParaRPr b="0" lang="en-US" sz="4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9" name=""/>
          <p:cNvSpPr txBox="1"/>
          <p:nvPr/>
        </p:nvSpPr>
        <p:spPr>
          <a:xfrm>
            <a:off x="988920" y="2044440"/>
            <a:ext cx="7166160" cy="408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200"/>
              </a:spcBef>
              <a:buClr>
                <a:srgbClr val="54638c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List the contributions of the Incas to the U.S.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0" name="Title 1"/>
          <p:cNvGrpSpPr/>
          <p:nvPr/>
        </p:nvGrpSpPr>
        <p:grpSpPr>
          <a:xfrm>
            <a:off x="347760" y="506520"/>
            <a:ext cx="8289720" cy="1017360"/>
            <a:chOff x="347760" y="506520"/>
            <a:chExt cx="8289720" cy="1017360"/>
          </a:xfrm>
        </p:grpSpPr>
        <p:pic>
          <p:nvPicPr>
            <p:cNvPr id="211" name="Title 1" descr=""/>
            <p:cNvPicPr/>
            <p:nvPr/>
          </p:nvPicPr>
          <p:blipFill>
            <a:blip r:embed="rId2"/>
            <a:stretch/>
          </p:blipFill>
          <p:spPr>
            <a:xfrm>
              <a:off x="347760" y="506520"/>
              <a:ext cx="8289720" cy="101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2" name=""/>
            <p:cNvSpPr/>
            <p:nvPr/>
          </p:nvSpPr>
          <p:spPr>
            <a:xfrm>
              <a:off x="612720" y="561960"/>
              <a:ext cx="7918560" cy="78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Century Gothic"/>
                </a:rPr>
                <a:t>Roads</a:t>
              </a:r>
              <a:endParaRPr b="0" lang="en-US" sz="4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213" name="Picture 3" descr=""/>
          <p:cNvPicPr/>
          <p:nvPr/>
        </p:nvPicPr>
        <p:blipFill>
          <a:blip r:embed="rId3"/>
          <a:stretch/>
        </p:blipFill>
        <p:spPr>
          <a:xfrm>
            <a:off x="1687680" y="1533600"/>
            <a:ext cx="5618160" cy="519912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 txBox="1"/>
          <p:nvPr/>
        </p:nvSpPr>
        <p:spPr>
          <a:xfrm>
            <a:off x="988920" y="2044440"/>
            <a:ext cx="7166160" cy="408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200"/>
              </a:spcBef>
              <a:buClr>
                <a:srgbClr val="54638c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2200"/>
              </a:spcBef>
              <a:buClr>
                <a:srgbClr val="54638c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5" name="Title 1"/>
          <p:cNvGrpSpPr/>
          <p:nvPr/>
        </p:nvGrpSpPr>
        <p:grpSpPr>
          <a:xfrm>
            <a:off x="274680" y="450720"/>
            <a:ext cx="8435880" cy="1170000"/>
            <a:chOff x="274680" y="450720"/>
            <a:chExt cx="8435880" cy="1170000"/>
          </a:xfrm>
        </p:grpSpPr>
        <p:pic>
          <p:nvPicPr>
            <p:cNvPr id="216" name="Title 1" descr=""/>
            <p:cNvPicPr/>
            <p:nvPr/>
          </p:nvPicPr>
          <p:blipFill>
            <a:blip r:embed="rId2"/>
            <a:stretch/>
          </p:blipFill>
          <p:spPr>
            <a:xfrm>
              <a:off x="274680" y="450720"/>
              <a:ext cx="843588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"/>
            <p:cNvSpPr/>
            <p:nvPr/>
          </p:nvSpPr>
          <p:spPr>
            <a:xfrm>
              <a:off x="612720" y="582480"/>
              <a:ext cx="7918560" cy="78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Century Gothic"/>
                </a:rPr>
                <a:t>Bridges</a:t>
              </a:r>
              <a:endParaRPr b="0" lang="en-US" sz="4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218" name="Picture 3" descr=""/>
          <p:cNvPicPr/>
          <p:nvPr/>
        </p:nvPicPr>
        <p:blipFill>
          <a:blip r:embed="rId3"/>
          <a:stretch/>
        </p:blipFill>
        <p:spPr>
          <a:xfrm>
            <a:off x="757080" y="1638360"/>
            <a:ext cx="7542360" cy="493560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 txBox="1"/>
          <p:nvPr/>
        </p:nvSpPr>
        <p:spPr>
          <a:xfrm>
            <a:off x="988920" y="2044440"/>
            <a:ext cx="7166160" cy="408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200"/>
              </a:spcBef>
              <a:buClr>
                <a:srgbClr val="54638c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pic>
        <p:nvPicPr>
          <p:cNvPr id="221" name="Content Placeholder 5" descr=""/>
          <p:cNvPicPr/>
          <p:nvPr/>
        </p:nvPicPr>
        <p:blipFill>
          <a:blip r:embed="rId2"/>
          <a:srcRect l="-85525" t="0" r="-85525" b="0"/>
          <a:stretch/>
        </p:blipFill>
        <p:spPr>
          <a:xfrm>
            <a:off x="-3048120" y="228600"/>
            <a:ext cx="11401560" cy="6492960"/>
          </a:xfrm>
          <a:prstGeom prst="rect">
            <a:avLst/>
          </a:prstGeom>
          <a:ln w="0">
            <a:noFill/>
          </a:ln>
        </p:spPr>
      </p:pic>
      <p:grpSp>
        <p:nvGrpSpPr>
          <p:cNvPr id="222" name="TextBox 4"/>
          <p:cNvGrpSpPr/>
          <p:nvPr/>
        </p:nvGrpSpPr>
        <p:grpSpPr>
          <a:xfrm>
            <a:off x="5194440" y="1504800"/>
            <a:ext cx="3267000" cy="1689120"/>
            <a:chOff x="5194440" y="1504800"/>
            <a:chExt cx="3267000" cy="1689120"/>
          </a:xfrm>
        </p:grpSpPr>
        <p:pic>
          <p:nvPicPr>
            <p:cNvPr id="223" name="TextBox 4" descr=""/>
            <p:cNvPicPr/>
            <p:nvPr/>
          </p:nvPicPr>
          <p:blipFill>
            <a:blip r:embed="rId3"/>
            <a:stretch/>
          </p:blipFill>
          <p:spPr>
            <a:xfrm>
              <a:off x="5194440" y="1504800"/>
              <a:ext cx="3267000" cy="168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4" name=""/>
            <p:cNvSpPr/>
            <p:nvPr/>
          </p:nvSpPr>
          <p:spPr>
            <a:xfrm>
              <a:off x="5362560" y="1563840"/>
              <a:ext cx="299088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Century Gothic"/>
                  <a:ea typeface="Century Gothic"/>
                </a:rPr>
                <a:t>Inca road map</a:t>
              </a: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5" name="Title 1"/>
          <p:cNvGrpSpPr/>
          <p:nvPr/>
        </p:nvGrpSpPr>
        <p:grpSpPr>
          <a:xfrm>
            <a:off x="347760" y="523800"/>
            <a:ext cx="8289720" cy="1023840"/>
            <a:chOff x="347760" y="523800"/>
            <a:chExt cx="8289720" cy="1023840"/>
          </a:xfrm>
        </p:grpSpPr>
        <p:pic>
          <p:nvPicPr>
            <p:cNvPr id="226" name="Title 1" descr=""/>
            <p:cNvPicPr/>
            <p:nvPr/>
          </p:nvPicPr>
          <p:blipFill>
            <a:blip r:embed="rId2"/>
            <a:stretch/>
          </p:blipFill>
          <p:spPr>
            <a:xfrm>
              <a:off x="347760" y="523800"/>
              <a:ext cx="8289720" cy="102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7" name=""/>
            <p:cNvSpPr/>
            <p:nvPr/>
          </p:nvSpPr>
          <p:spPr>
            <a:xfrm>
              <a:off x="612720" y="582480"/>
              <a:ext cx="7918560" cy="78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Century Gothic"/>
                </a:rPr>
                <a:t>The Quipu</a:t>
              </a:r>
              <a:endParaRPr b="0" lang="en-US" sz="4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8" name=""/>
          <p:cNvSpPr txBox="1"/>
          <p:nvPr/>
        </p:nvSpPr>
        <p:spPr>
          <a:xfrm>
            <a:off x="988920" y="2044440"/>
            <a:ext cx="7166160" cy="408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200"/>
              </a:spcBef>
              <a:buClr>
                <a:srgbClr val="54638c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29" name="Picture 3" descr=""/>
          <p:cNvPicPr/>
          <p:nvPr/>
        </p:nvPicPr>
        <p:blipFill>
          <a:blip r:embed="rId3"/>
          <a:stretch/>
        </p:blipFill>
        <p:spPr>
          <a:xfrm>
            <a:off x="988920" y="1754280"/>
            <a:ext cx="7166160" cy="43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Title 1" descr=""/>
          <p:cNvPicPr/>
          <p:nvPr/>
        </p:nvPicPr>
        <p:blipFill>
          <a:blip r:embed="rId2"/>
          <a:stretch/>
        </p:blipFill>
        <p:spPr>
          <a:xfrm>
            <a:off x="231840" y="738360"/>
            <a:ext cx="8663040" cy="277956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 txBox="1"/>
          <p:nvPr/>
        </p:nvSpPr>
        <p:spPr>
          <a:xfrm>
            <a:off x="988920" y="2044440"/>
            <a:ext cx="7166160" cy="408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200"/>
              </a:spcBef>
              <a:buClr>
                <a:srgbClr val="54638c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2" name="Title 1"/>
          <p:cNvGrpSpPr/>
          <p:nvPr/>
        </p:nvGrpSpPr>
        <p:grpSpPr>
          <a:xfrm>
            <a:off x="347760" y="231840"/>
            <a:ext cx="8289720" cy="1017360"/>
            <a:chOff x="347760" y="231840"/>
            <a:chExt cx="8289720" cy="1017360"/>
          </a:xfrm>
        </p:grpSpPr>
        <p:pic>
          <p:nvPicPr>
            <p:cNvPr id="233" name="Title 1" descr=""/>
            <p:cNvPicPr/>
            <p:nvPr/>
          </p:nvPicPr>
          <p:blipFill>
            <a:blip r:embed="rId2"/>
            <a:stretch/>
          </p:blipFill>
          <p:spPr>
            <a:xfrm>
              <a:off x="347760" y="231840"/>
              <a:ext cx="8289720" cy="101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4" name=""/>
            <p:cNvSpPr/>
            <p:nvPr/>
          </p:nvSpPr>
          <p:spPr>
            <a:xfrm>
              <a:off x="612720" y="289080"/>
              <a:ext cx="7918560" cy="78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Century Gothic"/>
                </a:rPr>
                <a:t>Architecture</a:t>
              </a:r>
              <a:endParaRPr b="0" lang="en-US" sz="4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235" name="Content Placeholder 3" descr="machu-picchu.jpg"/>
          <p:cNvPicPr/>
          <p:nvPr/>
        </p:nvPicPr>
        <p:blipFill>
          <a:blip r:embed="rId3"/>
          <a:srcRect l="-15838" t="0" r="-15838" b="0"/>
          <a:stretch/>
        </p:blipFill>
        <p:spPr>
          <a:xfrm>
            <a:off x="-1039680" y="1236600"/>
            <a:ext cx="9570960" cy="5450040"/>
          </a:xfrm>
          <a:prstGeom prst="rect">
            <a:avLst/>
          </a:prstGeom>
          <a:ln w="0">
            <a:noFill/>
          </a:ln>
        </p:spPr>
      </p:pic>
      <p:grpSp>
        <p:nvGrpSpPr>
          <p:cNvPr id="236" name="TextBox 3"/>
          <p:cNvGrpSpPr/>
          <p:nvPr/>
        </p:nvGrpSpPr>
        <p:grpSpPr>
          <a:xfrm>
            <a:off x="7443720" y="1773360"/>
            <a:ext cx="1809720" cy="1062000"/>
            <a:chOff x="7443720" y="1773360"/>
            <a:chExt cx="1809720" cy="1062000"/>
          </a:xfrm>
        </p:grpSpPr>
        <p:pic>
          <p:nvPicPr>
            <p:cNvPr id="237" name="TextBox 3" descr=""/>
            <p:cNvPicPr/>
            <p:nvPr/>
          </p:nvPicPr>
          <p:blipFill>
            <a:blip r:embed="rId4"/>
            <a:stretch/>
          </p:blipFill>
          <p:spPr>
            <a:xfrm>
              <a:off x="7443720" y="1773360"/>
              <a:ext cx="1809720" cy="106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8" name=""/>
            <p:cNvSpPr/>
            <p:nvPr/>
          </p:nvSpPr>
          <p:spPr>
            <a:xfrm>
              <a:off x="7581960" y="1828800"/>
              <a:ext cx="15620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entury Gothic"/>
                </a:rPr>
                <a:t>Machu Picchu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9" name="Left Arrow 12"/>
          <p:cNvGrpSpPr/>
          <p:nvPr/>
        </p:nvGrpSpPr>
        <p:grpSpPr>
          <a:xfrm>
            <a:off x="7315200" y="3090960"/>
            <a:ext cx="1322280" cy="938160"/>
            <a:chOff x="7315200" y="3090960"/>
            <a:chExt cx="1322280" cy="938160"/>
          </a:xfrm>
        </p:grpSpPr>
        <p:pic>
          <p:nvPicPr>
            <p:cNvPr id="240" name="Left Arrow 12" descr=""/>
            <p:cNvPicPr/>
            <p:nvPr/>
          </p:nvPicPr>
          <p:blipFill>
            <a:blip r:embed="rId5"/>
            <a:stretch/>
          </p:blipFill>
          <p:spPr>
            <a:xfrm>
              <a:off x="7315200" y="3090960"/>
              <a:ext cx="1322280" cy="93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1" name=""/>
            <p:cNvSpPr/>
            <p:nvPr/>
          </p:nvSpPr>
          <p:spPr>
            <a:xfrm>
              <a:off x="7624800" y="3324240"/>
              <a:ext cx="90648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42" name="Rectangle 13"/>
          <p:cNvGrpSpPr/>
          <p:nvPr/>
        </p:nvGrpSpPr>
        <p:grpSpPr>
          <a:xfrm>
            <a:off x="8143920" y="2571840"/>
            <a:ext cx="493560" cy="1293840"/>
            <a:chOff x="8143920" y="2571840"/>
            <a:chExt cx="493560" cy="1293840"/>
          </a:xfrm>
        </p:grpSpPr>
        <p:pic>
          <p:nvPicPr>
            <p:cNvPr id="243" name="Rectangle 13" descr=""/>
            <p:cNvPicPr/>
            <p:nvPr/>
          </p:nvPicPr>
          <p:blipFill>
            <a:blip r:embed="rId6"/>
            <a:stretch/>
          </p:blipFill>
          <p:spPr>
            <a:xfrm>
              <a:off x="8143920" y="2571840"/>
              <a:ext cx="493560" cy="129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4" name=""/>
            <p:cNvSpPr/>
            <p:nvPr/>
          </p:nvSpPr>
          <p:spPr>
            <a:xfrm>
              <a:off x="8255160" y="2629080"/>
              <a:ext cx="276120" cy="105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5" name="Title 1"/>
          <p:cNvGrpSpPr/>
          <p:nvPr/>
        </p:nvGrpSpPr>
        <p:grpSpPr>
          <a:xfrm>
            <a:off x="158760" y="212760"/>
            <a:ext cx="8290080" cy="1019160"/>
            <a:chOff x="158760" y="212760"/>
            <a:chExt cx="8290080" cy="1019160"/>
          </a:xfrm>
        </p:grpSpPr>
        <p:pic>
          <p:nvPicPr>
            <p:cNvPr id="246" name="Title 1" descr=""/>
            <p:cNvPicPr/>
            <p:nvPr/>
          </p:nvPicPr>
          <p:blipFill>
            <a:blip r:embed="rId2"/>
            <a:stretch/>
          </p:blipFill>
          <p:spPr>
            <a:xfrm>
              <a:off x="158760" y="212760"/>
              <a:ext cx="8290080" cy="101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7" name=""/>
            <p:cNvSpPr/>
            <p:nvPr/>
          </p:nvSpPr>
          <p:spPr>
            <a:xfrm>
              <a:off x="420840" y="270000"/>
              <a:ext cx="7918200" cy="78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Century Gothic"/>
                </a:rPr>
                <a:t>Architecture</a:t>
              </a:r>
              <a:endParaRPr b="0" lang="en-US" sz="4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48" name=""/>
          <p:cNvSpPr txBox="1"/>
          <p:nvPr/>
        </p:nvSpPr>
        <p:spPr>
          <a:xfrm>
            <a:off x="988920" y="2044440"/>
            <a:ext cx="7166160" cy="408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200"/>
              </a:spcBef>
              <a:buClr>
                <a:srgbClr val="54638c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49" name="Picture 3" descr=""/>
          <p:cNvPicPr/>
          <p:nvPr/>
        </p:nvPicPr>
        <p:blipFill>
          <a:blip r:embed="rId3"/>
          <a:stretch/>
        </p:blipFill>
        <p:spPr>
          <a:xfrm>
            <a:off x="125280" y="1182600"/>
            <a:ext cx="7275600" cy="53802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grpSp>
        <p:nvGrpSpPr>
          <p:cNvPr id="250" name="TextBox 4"/>
          <p:cNvGrpSpPr/>
          <p:nvPr/>
        </p:nvGrpSpPr>
        <p:grpSpPr>
          <a:xfrm>
            <a:off x="7139160" y="1755720"/>
            <a:ext cx="2249280" cy="871560"/>
            <a:chOff x="7139160" y="1755720"/>
            <a:chExt cx="2249280" cy="871560"/>
          </a:xfrm>
        </p:grpSpPr>
        <p:pic>
          <p:nvPicPr>
            <p:cNvPr id="251" name="TextBox 4" descr=""/>
            <p:cNvPicPr/>
            <p:nvPr/>
          </p:nvPicPr>
          <p:blipFill>
            <a:blip r:embed="rId4"/>
            <a:stretch/>
          </p:blipFill>
          <p:spPr>
            <a:xfrm>
              <a:off x="7139160" y="1755720"/>
              <a:ext cx="224928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2" name=""/>
            <p:cNvSpPr/>
            <p:nvPr/>
          </p:nvSpPr>
          <p:spPr>
            <a:xfrm>
              <a:off x="7283520" y="1808280"/>
              <a:ext cx="1993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entury Gothic"/>
                </a:rPr>
                <a:t>Sacsayhuama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53" name="Rectangle 5"/>
          <p:cNvGrpSpPr/>
          <p:nvPr/>
        </p:nvGrpSpPr>
        <p:grpSpPr>
          <a:xfrm>
            <a:off x="8034480" y="2401920"/>
            <a:ext cx="761760" cy="1388880"/>
            <a:chOff x="8034480" y="2401920"/>
            <a:chExt cx="761760" cy="1388880"/>
          </a:xfrm>
        </p:grpSpPr>
        <p:pic>
          <p:nvPicPr>
            <p:cNvPr id="254" name="Rectangle 5" descr=""/>
            <p:cNvPicPr/>
            <p:nvPr/>
          </p:nvPicPr>
          <p:blipFill>
            <a:blip r:embed="rId5"/>
            <a:stretch/>
          </p:blipFill>
          <p:spPr>
            <a:xfrm>
              <a:off x="8034480" y="2401920"/>
              <a:ext cx="761760" cy="138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5" name=""/>
            <p:cNvSpPr/>
            <p:nvPr/>
          </p:nvSpPr>
          <p:spPr>
            <a:xfrm>
              <a:off x="8155080" y="2455920"/>
              <a:ext cx="533160" cy="115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56" name="Left Arrow 6"/>
          <p:cNvGrpSpPr/>
          <p:nvPr/>
        </p:nvGrpSpPr>
        <p:grpSpPr>
          <a:xfrm>
            <a:off x="7265880" y="3292560"/>
            <a:ext cx="1530360" cy="1030320"/>
            <a:chOff x="7265880" y="3292560"/>
            <a:chExt cx="1530360" cy="1030320"/>
          </a:xfrm>
        </p:grpSpPr>
        <p:pic>
          <p:nvPicPr>
            <p:cNvPr id="257" name="Left Arrow 6" descr=""/>
            <p:cNvPicPr/>
            <p:nvPr/>
          </p:nvPicPr>
          <p:blipFill>
            <a:blip r:embed="rId6"/>
            <a:stretch/>
          </p:blipFill>
          <p:spPr>
            <a:xfrm>
              <a:off x="7265880" y="3292560"/>
              <a:ext cx="1530360" cy="103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8" name=""/>
            <p:cNvSpPr/>
            <p:nvPr/>
          </p:nvSpPr>
          <p:spPr>
            <a:xfrm>
              <a:off x="7601040" y="3548160"/>
              <a:ext cx="108720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9T20:26:06Z</dcterms:created>
  <dc:creator>Lynn and Carl</dc:creator>
  <dc:description/>
  <dc:language>en-US</dc:language>
  <cp:lastModifiedBy>Lynn and Carl</cp:lastModifiedBy>
  <dcterms:modified xsi:type="dcterms:W3CDTF">2009-10-13T23:31:39Z</dcterms:modified>
  <cp:revision>11</cp:revision>
  <dc:subject/>
  <dc:title>Slide 1</dc:title>
</cp:coreProperties>
</file>